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85C-1EA1-4B73-8651-35A24F82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013-AA7C-4768-A4EB-2584538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79F-0555-426E-90BF-6922D574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049-7851-48DE-870F-B77C86F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875-CED8-4A48-B9F2-EDBC0946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B14F-9BAC-408F-B1E7-86D3D082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679A-E04B-4587-9E1C-5623DCF1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04C-7C8D-4EEC-8A0F-CD8B03BF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93C-2432-4653-8046-07D38C1E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A04A-5AA5-4834-AFD1-AA7583AB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4FA-C5E3-4C30-8936-C8291ED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C6A-707E-42A1-8C12-D4604D9E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6EF-4343-4F0C-92C0-05402736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207-733C-4AD2-A000-C340726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08BC-DA24-4F72-8EDD-6C439643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1A7-8114-4B22-8618-15ADCFE1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1DCE-B995-40C5-9A47-EE3C28E0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32B-BD00-4CCB-8B2E-570A02B1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747-4E50-4FB8-805C-FB51AFF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2BD-EF00-4CB6-BC48-11CD3338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5D5-2792-4079-9324-72DCE04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09A-9BBA-4B87-9F47-A5733B6D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C4C-5C66-4B54-B0EC-4E59D4E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AD5-CCE4-4137-9FFC-9F2B18D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2644-6463-4E10-971A-E6C235C6A1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73E7-0FBF-4C61-957E-750232FA57B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50states.com/missouri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bensguide.gpo.gov/3-5/state/missouri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stcardsfrom.com/t1/991012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postcardsfrom.com/stamp/stamp-mo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04920" y="380880"/>
            <a:ext cx="62481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3e7"/>
                    </a:gs>
                    <a:gs pos="50000">
                      <a:srgbClr val="753bcb"/>
                    </a:gs>
                    <a:gs pos="100000">
                      <a:srgbClr val="ff03e7"/>
                    </a:gs>
                  </a:gsLst>
                  <a:lin ang="5400000"/>
                </a:gradFill>
                <a:latin typeface="Arial Black"/>
              </a:rPr>
              <a:t>Missou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3e7"/>
                  </a:gs>
                  <a:gs pos="50000">
                    <a:srgbClr val="753bcb"/>
                  </a:gs>
                  <a:gs pos="100000">
                    <a:srgbClr val="ff03e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38098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52531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anth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. 22,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3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364440" y="2133720"/>
            <a:ext cx="2779560" cy="281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324480" y="49528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8600" y="0"/>
            <a:ext cx="5638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 Black"/>
              </a:rPr>
              <a:t>Missouri Song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, 10/7/10,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50states.com/missouri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State Name: Missour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Capitol: Jefferson C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Population: 5,595,211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Entered the Union: Aug. 10, 1821, 32</a:t>
            </a:r>
            <a:r>
              <a:rPr b="0" lang="en-US" sz="2800" spc="-1" strike="noStrike" baseline="30000">
                <a:solidFill>
                  <a:srgbClr val="66ffff"/>
                </a:solidFill>
                <a:latin typeface="Arial Black"/>
              </a:rPr>
              <a:t>nd</a:t>
            </a: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Motto: Salus Populi Suprema Le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Nickname: Show me St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Flower: Hawthor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Bird: Bluebir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Song: Missouri Waltz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Meaning Behind Name: Alogonquin meaning “river of big canoe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 Black"/>
              </a:rPr>
              <a:t>Interesting Facts: produces lead and mozarkite, Gateway arch in St. Louis, Mo, Jewel Box in Forest Park, 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044800" cy="2133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229600" y="4038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par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Missouri: Map and State Flag"/>
          <p:cNvPicPr/>
          <p:nvPr/>
        </p:nvPicPr>
        <p:blipFill>
          <a:blip r:embed="rId1"/>
          <a:srcRect l="0" t="42655" r="0" b="0"/>
          <a:stretch/>
        </p:blipFill>
        <p:spPr>
          <a:xfrm>
            <a:off x="4952880" y="2971800"/>
            <a:ext cx="3948120" cy="3597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Missouri: Map and State Flag"/>
          <p:cNvPicPr/>
          <p:nvPr/>
        </p:nvPicPr>
        <p:blipFill>
          <a:blip r:embed="rId2"/>
          <a:srcRect l="0" t="0" r="1351" b="65166"/>
          <a:stretch/>
        </p:blipFill>
        <p:spPr>
          <a:xfrm>
            <a:off x="228600" y="228600"/>
            <a:ext cx="4343400" cy="2435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44956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Missou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tember 22, 2010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3"/>
              </a:rPr>
              <a:t>http://bensguide.gpo.gov/3-5/state/missouri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28600"/>
            <a:ext cx="266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0000"/>
                </a:solidFill>
                <a:latin typeface="Arial"/>
              </a:rPr>
              <a:t>Look at th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tty colors of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2814bc"/>
                </a:solidFill>
                <a:latin typeface="Arial"/>
              </a:rPr>
              <a:t>the flag!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All images Copyright © 1997 - 2000 WriteLine. All Rights Reserved. Saint Louis Ar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990720" y="5867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58672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5943600"/>
            <a:ext cx="838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 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e Gateway Arch, St. Louis, Mo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/23/2010,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"/>
                <a:hlinkClick r:id="rId2"/>
              </a:rPr>
              <a:t>http://www.postcardsfrom.com/t1/991012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50292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ateway Arch is awesome!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© 1999 WriteLine. Hawthorn Rose"/>
          <p:cNvPicPr/>
          <p:nvPr/>
        </p:nvPicPr>
        <p:blipFill>
          <a:blip r:embed="rId1"/>
          <a:stretch/>
        </p:blipFill>
        <p:spPr>
          <a:xfrm>
            <a:off x="304920" y="228600"/>
            <a:ext cx="255744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© 1999 WriteLine. Dogwood tree"/>
          <p:cNvPicPr/>
          <p:nvPr/>
        </p:nvPicPr>
        <p:blipFill>
          <a:blip r:embed="rId2"/>
          <a:stretch/>
        </p:blipFill>
        <p:spPr>
          <a:xfrm>
            <a:off x="6172200" y="3505320"/>
            <a:ext cx="2541600" cy="3028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© 1998 WriteLine. Bluebird"/>
          <p:cNvPicPr/>
          <p:nvPr/>
        </p:nvPicPr>
        <p:blipFill>
          <a:blip r:embed="rId3"/>
          <a:stretch/>
        </p:blipFill>
        <p:spPr>
          <a:xfrm>
            <a:off x="6095880" y="228600"/>
            <a:ext cx="2644920" cy="2895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© 1999 WriteLine. Missouri flag"/>
          <p:cNvPicPr/>
          <p:nvPr/>
        </p:nvPicPr>
        <p:blipFill>
          <a:blip r:embed="rId4"/>
          <a:stretch/>
        </p:blipFill>
        <p:spPr>
          <a:xfrm>
            <a:off x="152280" y="3581280"/>
            <a:ext cx="396252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6095880"/>
            <a:ext cx="8686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issouri State Stamps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/23/10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"/>
                <a:hlinkClick r:id="rId5"/>
              </a:rPr>
              <a:t>http://www.postcardsfrom.com/stamp/stamp-mo.html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5335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57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Lucida Calligraphy"/>
              </a:rPr>
              <a:t>These stamps are beautiful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9:41Z</dcterms:created>
  <dc:creator>install</dc:creator>
  <dc:description/>
  <dc:language>en-US</dc:language>
  <cp:lastModifiedBy>install</cp:lastModifiedBy>
  <dcterms:modified xsi:type="dcterms:W3CDTF">2010-10-14T13:21:12Z</dcterms:modified>
  <cp:revision>10</cp:revision>
  <dc:subject/>
  <dc:title>Slide 1</dc:title>
</cp:coreProperties>
</file>